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6.png" ContentType="image/png"/>
  <Override PartName="/ppt/media/image9.wmf" ContentType="image/x-wmf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/</a:t>
            </a:r>
            <a:fld id="{918CA040-49AC-4B12-A41A-AE5F246B71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67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üüsilised, käegakatsutavad osa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klaviatuur, monitor, integraalskeem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 ja andm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on jada instruktsioo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1357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äpne samm-sammuline, kuid mitte tingimata formaalne juhend millegi tegemiseks. Näit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iduretsep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end ruutvõrrandi lahendamisek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ne probleem -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, mille lahendus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ab kirja panna täidetavate juhendite loetel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formaalses, üheselt mõistetavas keeles kirja pandud algoritm. Arvutid suudavad täita ainult programm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naloog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id salvestatakse (peegeldatakse) proportsionaalse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termomeeter, vinüülplaat, fo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igitaal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pidevad) andmed lõhutakse üksikuteks tükkideks, mis salvestatakse erald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CD, arvutiprogramm, kiri tähtede ja bittide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Ühelt teisele: digitaliseeri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9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1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protsess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teeb pea kogu töö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hoiab aktiivses kasutuses olevaid programme ja andm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pikaajaliseks säilitamiseks (kõvaketas, flopi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seadm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monitor, klaviatuur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3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364000" y="2895480"/>
            <a:ext cx="2865600" cy="29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990720" y="410544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PU ja muud seadm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4" name="Group 2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5" name="Line 3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4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s on ja mis ei ole arvuti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Wikiped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 computer is a general purpose device that can be programmed to carry out a set of arithmetic or logical operations. Since a sequence of operations can be readily changed, the computer can solve more than one kind of proble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Goog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n electronic device which is capable of receiving information (data) in a particular form and of performing a sequence of operations in accordance with a predetermined but variable set of procedural instructions (program) to produce a result in the form of information or signal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One course in 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Univ. of Virginia</a:t>
            </a: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mputer is a device which takes data in one form, uses it, and produces a different form of information which is related to (but not the same as) the original d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rsuse eesmär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gi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oengukav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irjandus, lisamaterjalid, vii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mõis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rinevad koolkonna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5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three major comparisons of computers ar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omputers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chanical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eneral-purpose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cial-purpose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al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alog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ks algallikatest: Remingtoni revolv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557360" y="1797120"/>
            <a:ext cx="6132600" cy="331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üssitootmise tehnoloogia võimaldas: Remingtoni 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968480" y="1346040"/>
            <a:ext cx="5308560" cy="421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mehhaaniline programmeeritav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233360" y="1440000"/>
            <a:ext cx="740736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mikroprose: intel 400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34527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uring machine: lihtne teoreetiline 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an Turingi idee, milline võiks olla lihtne universaalne arvuti: suudaks arvutada/järeldada kõike!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ringi tees: kõike, mida üldse saab mingi masinaga arvutada/järeldada, saab ka Turingi masinaga arv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uring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en.wikipedia.org/wiki/Alan_Turi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radiolab.org/story/193037-turing-problem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7" name="Picture 7" descr="http://math2033.uark.edu/wiki/images/6/6d/Turing-machine.jpg"/>
          <p:cNvPicPr/>
          <p:nvPr/>
        </p:nvPicPr>
        <p:blipFill>
          <a:blip r:embed="rId1"/>
          <a:stretch/>
        </p:blipFill>
        <p:spPr>
          <a:xfrm>
            <a:off x="1619280" y="380880"/>
            <a:ext cx="5943600" cy="2853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1523880" y="586728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://www.youtube.com/watch?v=cYw2ewoO6c4&amp;NR=1https://www.youtube.com/watch?v=40DkJ9vt5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s://www.youtube.com/watch?v=ivPv_kaYuw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9" descr="http://www.legoturingmachine.org/images/global.jpg"/>
          <p:cNvPicPr/>
          <p:nvPr/>
        </p:nvPicPr>
        <p:blipFill>
          <a:blip r:embed="rId2"/>
          <a:stretch/>
        </p:blipFill>
        <p:spPr>
          <a:xfrm>
            <a:off x="380880" y="3294000"/>
            <a:ext cx="3305160" cy="2479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https://encrypted-tbn0.gstatic.com/images?q=tbn:ANd9GcTISCKcQXibQWulTUd-DSxwFv_Q0_P-PY-bKrxcnjStKkZD02JohRxYWmUI"/>
          <p:cNvPicPr/>
          <p:nvPr/>
        </p:nvPicPr>
        <p:blipFill>
          <a:blip r:embed="rId3"/>
          <a:stretch/>
        </p:blipFill>
        <p:spPr>
          <a:xfrm>
            <a:off x="4519440" y="3733920"/>
            <a:ext cx="38768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gub, et kõiki täpselt formuleeritud, selgeid, algoritmilisi probleeme ei saa garanteeritult algoritmiga lahend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alternatiivid sel juhul on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ü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pime sellega, et mõnes olukorras ei õnnestu vastust lei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k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me vahel juhuslikult, ehk: teeme vahel vig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eesmä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kokkusurutud ülevaade infotehnoloogiast tervik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ajalooline ülevaade IT teooria, tehnoloogia ja äri areng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vustada edaspidiseid teemasid/kursuseid stuudiumi vältel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ektne arvutusmasi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2160720" y="1619280"/>
            <a:ext cx="4319280" cy="457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five types of information that are the only types the computer commonly manipulat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sual (picture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umeric (number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aracter (text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udio (soun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program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fore the computer can use any type of information, it must be stored in the computer’s memory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blem: How is information stored within the computer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is stored in numerical form within the compu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dern computers work in a system of numbers called binary numb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milar to familiar decimal syste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s only two symbols: 0 and 1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choice of using binary numbers is dictated by cost and reliabilit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circuit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ircuits are cheapest and most reliable if they only assume two states or conditio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binary circuits have only two states, ON or OFF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 use only two symbols: 0 and 1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ow can more than two possibilities be represented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three light system can have up to eight combinations. Each combination can represent a co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4835520" y="1898640"/>
            <a:ext cx="3851280" cy="38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inary equivalents of the numerals 0 to 7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2496240" y="2556000"/>
            <a:ext cx="1553400" cy="3386520"/>
            <a:chOff x="2496240" y="2556000"/>
            <a:chExt cx="1553400" cy="3386520"/>
          </a:xfrm>
        </p:grpSpPr>
        <p:sp>
          <p:nvSpPr>
            <p:cNvPr id="192" name="AutoShape 4"/>
            <p:cNvSpPr/>
            <p:nvPr/>
          </p:nvSpPr>
          <p:spPr>
            <a:xfrm>
              <a:off x="2498760" y="2556000"/>
              <a:ext cx="1550880" cy="3373200"/>
            </a:xfrm>
            <a:custGeom>
              <a:avLst/>
              <a:gdLst>
                <a:gd name="textAreaLeft" fmla="*/ 360 w 1550880"/>
                <a:gd name="textAreaRight" fmla="*/ 1550520 w 1550880"/>
                <a:gd name="textAreaTop" fmla="*/ 360 h 3373200"/>
                <a:gd name="textAreaBottom" fmla="*/ 3372840 h 3373200"/>
              </a:gdLst>
              <a:ahLst/>
              <a:rect l="textAreaLeft" t="textAreaTop" r="textAreaRight" b="textAreaBottom"/>
              <a:pathLst>
                <a:path w="21600" h="46975">
                  <a:moveTo>
                    <a:pt x="22" y="0"/>
                  </a:moveTo>
                  <a:arcTo wR="22" hR="22" stAng="16200000" swAng="-5400000"/>
                  <a:lnTo>
                    <a:pt x="0" y="46953"/>
                  </a:lnTo>
                  <a:arcTo wR="22" hR="22" stAng="10800000" swAng="-5400000"/>
                  <a:lnTo>
                    <a:pt x="21578" y="46975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Group 5"/>
            <p:cNvGrpSpPr/>
            <p:nvPr/>
          </p:nvGrpSpPr>
          <p:grpSpPr>
            <a:xfrm>
              <a:off x="2496240" y="2556000"/>
              <a:ext cx="1553400" cy="3386520"/>
              <a:chOff x="2496240" y="2556000"/>
              <a:chExt cx="1553400" cy="3386520"/>
            </a:xfrm>
          </p:grpSpPr>
          <p:sp>
            <p:nvSpPr>
              <p:cNvPr id="194" name="AutoShape 6"/>
              <p:cNvSpPr/>
              <p:nvPr/>
            </p:nvSpPr>
            <p:spPr>
              <a:xfrm>
                <a:off x="2498760" y="2556000"/>
                <a:ext cx="1550880" cy="3373200"/>
              </a:xfrm>
              <a:custGeom>
                <a:avLst/>
                <a:gdLst>
                  <a:gd name="textAreaLeft" fmla="*/ 360 w 1550880"/>
                  <a:gd name="textAreaRight" fmla="*/ 1550520 w 1550880"/>
                  <a:gd name="textAreaTop" fmla="*/ 360 h 3373200"/>
                  <a:gd name="textAreaBottom" fmla="*/ 3372840 h 3373200"/>
                </a:gdLst>
                <a:ahLst/>
                <a:rect l="textAreaLeft" t="textAreaTop" r="textAreaRight" b="textAreaBottom"/>
                <a:pathLst>
                  <a:path w="21600" h="46975">
                    <a:moveTo>
                      <a:pt x="22" y="0"/>
                    </a:moveTo>
                    <a:arcTo wR="22" hR="22" stAng="16200000" swAng="-5400000"/>
                    <a:lnTo>
                      <a:pt x="0" y="46953"/>
                    </a:lnTo>
                    <a:arcTo wR="22" hR="22" stAng="10800000" swAng="-5400000"/>
                    <a:lnTo>
                      <a:pt x="21578" y="4697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AutoShape 7"/>
              <p:cNvSpPr/>
              <p:nvPr/>
            </p:nvSpPr>
            <p:spPr>
              <a:xfrm>
                <a:off x="2496240" y="255600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8"/>
          <p:cNvGrpSpPr/>
          <p:nvPr/>
        </p:nvGrpSpPr>
        <p:grpSpPr>
          <a:xfrm>
            <a:off x="4720680" y="3809880"/>
            <a:ext cx="2208240" cy="460440"/>
            <a:chOff x="4720680" y="3809880"/>
            <a:chExt cx="2208240" cy="460440"/>
          </a:xfrm>
        </p:grpSpPr>
        <p:sp>
          <p:nvSpPr>
            <p:cNvPr id="197" name="AutoShape 9"/>
            <p:cNvSpPr/>
            <p:nvPr/>
          </p:nvSpPr>
          <p:spPr>
            <a:xfrm>
              <a:off x="4724280" y="3809880"/>
              <a:ext cx="220032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10"/>
            <p:cNvGrpSpPr/>
            <p:nvPr/>
          </p:nvGrpSpPr>
          <p:grpSpPr>
            <a:xfrm>
              <a:off x="4720680" y="3809880"/>
              <a:ext cx="2208240" cy="460440"/>
              <a:chOff x="4720680" y="3809880"/>
              <a:chExt cx="2208240" cy="46044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724280" y="3809880"/>
                <a:ext cx="220032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12"/>
              <p:cNvSpPr/>
              <p:nvPr/>
            </p:nvSpPr>
            <p:spPr>
              <a:xfrm>
                <a:off x="4720680" y="3809880"/>
                <a:ext cx="220824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ary numeral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Freeform 13"/>
          <p:cNvSpPr/>
          <p:nvPr/>
        </p:nvSpPr>
        <p:spPr>
          <a:xfrm>
            <a:off x="4114800" y="266688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imal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990720" y="3352680"/>
            <a:ext cx="7678440" cy="1191960"/>
            <a:chOff x="990720" y="3352680"/>
            <a:chExt cx="7678440" cy="1191960"/>
          </a:xfrm>
        </p:grpSpPr>
        <p:sp>
          <p:nvSpPr>
            <p:cNvPr id="205" name="AutoShape 4"/>
            <p:cNvSpPr/>
            <p:nvPr/>
          </p:nvSpPr>
          <p:spPr>
            <a:xfrm>
              <a:off x="990720" y="3352680"/>
              <a:ext cx="7678440" cy="118296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" name="Group 5"/>
            <p:cNvGrpSpPr/>
            <p:nvPr/>
          </p:nvGrpSpPr>
          <p:grpSpPr>
            <a:xfrm>
              <a:off x="990720" y="3352680"/>
              <a:ext cx="7678440" cy="1191960"/>
              <a:chOff x="990720" y="3352680"/>
              <a:chExt cx="7678440" cy="1191960"/>
            </a:xfrm>
          </p:grpSpPr>
          <p:sp>
            <p:nvSpPr>
              <p:cNvPr id="207" name="AutoShape 6"/>
              <p:cNvSpPr/>
              <p:nvPr/>
            </p:nvSpPr>
            <p:spPr>
              <a:xfrm>
                <a:off x="990720" y="3352680"/>
                <a:ext cx="7678440" cy="1182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>
                <a:off x="991800" y="3352680"/>
                <a:ext cx="7639920" cy="1191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1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3      1       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 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2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100) + (1x10) + (2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300     +    10    +    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Group 8"/>
          <p:cNvGrpSpPr/>
          <p:nvPr/>
        </p:nvGrpSpPr>
        <p:grpSpPr>
          <a:xfrm>
            <a:off x="2662920" y="2514600"/>
            <a:ext cx="1910160" cy="460440"/>
            <a:chOff x="2662920" y="2514600"/>
            <a:chExt cx="1910160" cy="460440"/>
          </a:xfrm>
        </p:grpSpPr>
        <p:sp>
          <p:nvSpPr>
            <p:cNvPr id="210" name="AutoShape 9"/>
            <p:cNvSpPr/>
            <p:nvPr/>
          </p:nvSpPr>
          <p:spPr>
            <a:xfrm>
              <a:off x="2666520" y="2514600"/>
              <a:ext cx="190656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" name="Group 10"/>
            <p:cNvGrpSpPr/>
            <p:nvPr/>
          </p:nvGrpSpPr>
          <p:grpSpPr>
            <a:xfrm>
              <a:off x="2662920" y="2514600"/>
              <a:ext cx="1909800" cy="460440"/>
              <a:chOff x="2662920" y="2514600"/>
              <a:chExt cx="1909800" cy="460440"/>
            </a:xfrm>
          </p:grpSpPr>
          <p:sp>
            <p:nvSpPr>
              <p:cNvPr id="212" name="AutoShape 11"/>
              <p:cNvSpPr/>
              <p:nvPr/>
            </p:nvSpPr>
            <p:spPr>
              <a:xfrm>
                <a:off x="2666520" y="2514600"/>
                <a:ext cx="190476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12"/>
              <p:cNvSpPr/>
              <p:nvPr/>
            </p:nvSpPr>
            <p:spPr>
              <a:xfrm>
                <a:off x="2662920" y="2514600"/>
                <a:ext cx="1909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s   10s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Line 13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14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1"/>
          <p:cNvSpPr/>
          <p:nvPr/>
        </p:nvSpPr>
        <p:spPr>
          <a:xfrm>
            <a:off x="2819520" y="5105520"/>
            <a:ext cx="3200400" cy="609480"/>
          </a:xfrm>
          <a:prstGeom prst="roundRect">
            <a:avLst>
              <a:gd name="adj" fmla="val 25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990360" y="3352680"/>
            <a:ext cx="7221600" cy="2390040"/>
            <a:chOff x="990360" y="3352680"/>
            <a:chExt cx="7221600" cy="2390040"/>
          </a:xfrm>
        </p:grpSpPr>
        <p:sp>
          <p:nvSpPr>
            <p:cNvPr id="221" name="AutoShape 5"/>
            <p:cNvSpPr/>
            <p:nvPr/>
          </p:nvSpPr>
          <p:spPr>
            <a:xfrm>
              <a:off x="990720" y="3352680"/>
              <a:ext cx="7221240" cy="2278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Group 6"/>
            <p:cNvGrpSpPr/>
            <p:nvPr/>
          </p:nvGrpSpPr>
          <p:grpSpPr>
            <a:xfrm>
              <a:off x="990360" y="3352680"/>
              <a:ext cx="7221600" cy="2390040"/>
              <a:chOff x="990360" y="3352680"/>
              <a:chExt cx="7221600" cy="2390040"/>
            </a:xfrm>
          </p:grpSpPr>
          <p:sp>
            <p:nvSpPr>
              <p:cNvPr id="223" name="AutoShape 7"/>
              <p:cNvSpPr/>
              <p:nvPr/>
            </p:nvSpPr>
            <p:spPr>
              <a:xfrm>
                <a:off x="990720" y="3352680"/>
                <a:ext cx="7221240" cy="227808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AutoShape 8"/>
              <p:cNvSpPr/>
              <p:nvPr/>
            </p:nvSpPr>
            <p:spPr>
              <a:xfrm>
                <a:off x="990360" y="3352680"/>
                <a:ext cx="7182720" cy="239004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1      0       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1x 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0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(1x4) +   (0x2) + (1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4     +    0    +    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5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Group 9"/>
          <p:cNvGrpSpPr/>
          <p:nvPr/>
        </p:nvGrpSpPr>
        <p:grpSpPr>
          <a:xfrm>
            <a:off x="2664720" y="2514600"/>
            <a:ext cx="1834200" cy="460440"/>
            <a:chOff x="2664720" y="2514600"/>
            <a:chExt cx="1834200" cy="460440"/>
          </a:xfrm>
        </p:grpSpPr>
        <p:sp>
          <p:nvSpPr>
            <p:cNvPr id="226" name="AutoShape 10"/>
            <p:cNvSpPr/>
            <p:nvPr/>
          </p:nvSpPr>
          <p:spPr>
            <a:xfrm>
              <a:off x="2666880" y="2514600"/>
              <a:ext cx="183204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Group 11"/>
            <p:cNvGrpSpPr/>
            <p:nvPr/>
          </p:nvGrpSpPr>
          <p:grpSpPr>
            <a:xfrm>
              <a:off x="2664720" y="2514600"/>
              <a:ext cx="1834200" cy="460440"/>
              <a:chOff x="2664720" y="2514600"/>
              <a:chExt cx="1834200" cy="460440"/>
            </a:xfrm>
          </p:grpSpPr>
          <p:sp>
            <p:nvSpPr>
              <p:cNvPr id="228" name="AutoShape 12"/>
              <p:cNvSpPr/>
              <p:nvPr/>
            </p:nvSpPr>
            <p:spPr>
              <a:xfrm>
                <a:off x="2666880" y="2514600"/>
                <a:ext cx="183204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13"/>
              <p:cNvSpPr/>
              <p:nvPr/>
            </p:nvSpPr>
            <p:spPr>
              <a:xfrm>
                <a:off x="2664720" y="2514600"/>
                <a:ext cx="183348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s      2s  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Line 14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late 10011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to a decimal numb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835920" y="2438280"/>
            <a:ext cx="2130480" cy="1009080"/>
            <a:chOff x="835920" y="2438280"/>
            <a:chExt cx="2130480" cy="1009080"/>
          </a:xfrm>
        </p:grpSpPr>
        <p:sp>
          <p:nvSpPr>
            <p:cNvPr id="236" name="AutoShape 4"/>
            <p:cNvSpPr/>
            <p:nvPr/>
          </p:nvSpPr>
          <p:spPr>
            <a:xfrm>
              <a:off x="838080" y="2438280"/>
              <a:ext cx="212256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5"/>
            <p:cNvGrpSpPr/>
            <p:nvPr/>
          </p:nvGrpSpPr>
          <p:grpSpPr>
            <a:xfrm>
              <a:off x="835920" y="2438280"/>
              <a:ext cx="2130480" cy="1009080"/>
              <a:chOff x="835920" y="2438280"/>
              <a:chExt cx="2130480" cy="1009080"/>
            </a:xfrm>
          </p:grpSpPr>
          <p:sp>
            <p:nvSpPr>
              <p:cNvPr id="238" name="AutoShape 6"/>
              <p:cNvSpPr/>
              <p:nvPr/>
            </p:nvSpPr>
            <p:spPr>
              <a:xfrm>
                <a:off x="838080" y="2438280"/>
                <a:ext cx="212256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7"/>
              <p:cNvSpPr/>
              <p:nvPr/>
            </p:nvSpPr>
            <p:spPr>
              <a:xfrm>
                <a:off x="835920" y="2438280"/>
                <a:ext cx="213048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the base tw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umerals unde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8"/>
          <p:cNvGrpSpPr/>
          <p:nvPr/>
        </p:nvGrpSpPr>
        <p:grpSpPr>
          <a:xfrm>
            <a:off x="759600" y="3511440"/>
            <a:ext cx="2226600" cy="993960"/>
            <a:chOff x="759600" y="3511440"/>
            <a:chExt cx="2226600" cy="993960"/>
          </a:xfrm>
        </p:grpSpPr>
        <p:sp>
          <p:nvSpPr>
            <p:cNvPr id="241" name="AutoShape 9"/>
            <p:cNvSpPr/>
            <p:nvPr/>
          </p:nvSpPr>
          <p:spPr>
            <a:xfrm>
              <a:off x="762120" y="3511440"/>
              <a:ext cx="2224080" cy="99396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Group 10"/>
            <p:cNvGrpSpPr/>
            <p:nvPr/>
          </p:nvGrpSpPr>
          <p:grpSpPr>
            <a:xfrm>
              <a:off x="759600" y="3511440"/>
              <a:ext cx="2226600" cy="993960"/>
              <a:chOff x="759600" y="3511440"/>
              <a:chExt cx="2226600" cy="993960"/>
            </a:xfrm>
          </p:grpSpPr>
          <p:sp>
            <p:nvSpPr>
              <p:cNvPr id="243" name="AutoShape 11"/>
              <p:cNvSpPr/>
              <p:nvPr/>
            </p:nvSpPr>
            <p:spPr>
              <a:xfrm>
                <a:off x="762120" y="3511440"/>
                <a:ext cx="2224080" cy="99396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12"/>
              <p:cNvSpPr/>
              <p:nvPr/>
            </p:nvSpPr>
            <p:spPr>
              <a:xfrm>
                <a:off x="759600" y="351144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AutoShape 13"/>
          <p:cNvSpPr/>
          <p:nvPr/>
        </p:nvSpPr>
        <p:spPr>
          <a:xfrm>
            <a:off x="762120" y="3505320"/>
            <a:ext cx="2209680" cy="99036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762120" y="388620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762120" y="41911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11430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7"/>
          <p:cNvSpPr/>
          <p:nvPr/>
        </p:nvSpPr>
        <p:spPr>
          <a:xfrm>
            <a:off x="16002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8"/>
          <p:cNvSpPr/>
          <p:nvPr/>
        </p:nvSpPr>
        <p:spPr>
          <a:xfrm>
            <a:off x="20574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25146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20"/>
          <p:cNvGrpSpPr/>
          <p:nvPr/>
        </p:nvGrpSpPr>
        <p:grpSpPr>
          <a:xfrm>
            <a:off x="3733920" y="2438280"/>
            <a:ext cx="2224440" cy="734760"/>
            <a:chOff x="3733920" y="2438280"/>
            <a:chExt cx="2224440" cy="734760"/>
          </a:xfrm>
        </p:grpSpPr>
        <p:sp>
          <p:nvSpPr>
            <p:cNvPr id="253" name="AutoShape 21"/>
            <p:cNvSpPr/>
            <p:nvPr/>
          </p:nvSpPr>
          <p:spPr>
            <a:xfrm>
              <a:off x="3733920" y="2438280"/>
              <a:ext cx="2211120" cy="72720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Group 22"/>
            <p:cNvGrpSpPr/>
            <p:nvPr/>
          </p:nvGrpSpPr>
          <p:grpSpPr>
            <a:xfrm>
              <a:off x="3733920" y="2438280"/>
              <a:ext cx="2224440" cy="734760"/>
              <a:chOff x="3733920" y="2438280"/>
              <a:chExt cx="2224440" cy="734760"/>
            </a:xfrm>
          </p:grpSpPr>
          <p:sp>
            <p:nvSpPr>
              <p:cNvPr id="255" name="AutoShape 23"/>
              <p:cNvSpPr/>
              <p:nvPr/>
            </p:nvSpPr>
            <p:spPr>
              <a:xfrm>
                <a:off x="3733920" y="2438280"/>
                <a:ext cx="2209680" cy="72720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utoShape 24"/>
              <p:cNvSpPr/>
              <p:nvPr/>
            </p:nvSpPr>
            <p:spPr>
              <a:xfrm>
                <a:off x="3735000" y="2438280"/>
                <a:ext cx="2223360" cy="73476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ultiply throug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y the 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25"/>
          <p:cNvGrpSpPr/>
          <p:nvPr/>
        </p:nvGrpSpPr>
        <p:grpSpPr>
          <a:xfrm>
            <a:off x="3656880" y="3359160"/>
            <a:ext cx="2224800" cy="993600"/>
            <a:chOff x="3656880" y="3359160"/>
            <a:chExt cx="2224800" cy="993600"/>
          </a:xfrm>
        </p:grpSpPr>
        <p:sp>
          <p:nvSpPr>
            <p:cNvPr id="258" name="AutoShape 26"/>
            <p:cNvSpPr/>
            <p:nvPr/>
          </p:nvSpPr>
          <p:spPr>
            <a:xfrm>
              <a:off x="3657600" y="3359160"/>
              <a:ext cx="2224080" cy="9936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Group 27"/>
            <p:cNvGrpSpPr/>
            <p:nvPr/>
          </p:nvGrpSpPr>
          <p:grpSpPr>
            <a:xfrm>
              <a:off x="3656880" y="3359160"/>
              <a:ext cx="2224800" cy="993600"/>
              <a:chOff x="3656880" y="3359160"/>
              <a:chExt cx="2224800" cy="993600"/>
            </a:xfrm>
          </p:grpSpPr>
          <p:sp>
            <p:nvSpPr>
              <p:cNvPr id="260" name="AutoShape 28"/>
              <p:cNvSpPr/>
              <p:nvPr/>
            </p:nvSpPr>
            <p:spPr>
              <a:xfrm>
                <a:off x="3657600" y="3359160"/>
                <a:ext cx="2224080" cy="9936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29"/>
              <p:cNvSpPr/>
              <p:nvPr/>
            </p:nvSpPr>
            <p:spPr>
              <a:xfrm>
                <a:off x="3656880" y="335916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AutoShape 30"/>
          <p:cNvSpPr/>
          <p:nvPr/>
        </p:nvSpPr>
        <p:spPr>
          <a:xfrm>
            <a:off x="3657600" y="3352680"/>
            <a:ext cx="2209680" cy="99072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31"/>
          <p:cNvSpPr/>
          <p:nvPr/>
        </p:nvSpPr>
        <p:spPr>
          <a:xfrm>
            <a:off x="3657600" y="37339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32"/>
          <p:cNvSpPr/>
          <p:nvPr/>
        </p:nvSpPr>
        <p:spPr>
          <a:xfrm>
            <a:off x="3657600" y="4038480"/>
            <a:ext cx="2209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33"/>
          <p:cNvSpPr/>
          <p:nvPr/>
        </p:nvSpPr>
        <p:spPr>
          <a:xfrm>
            <a:off x="40384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34"/>
          <p:cNvSpPr/>
          <p:nvPr/>
        </p:nvSpPr>
        <p:spPr>
          <a:xfrm>
            <a:off x="44956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35"/>
          <p:cNvSpPr/>
          <p:nvPr/>
        </p:nvSpPr>
        <p:spPr>
          <a:xfrm>
            <a:off x="49528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37"/>
          <p:cNvSpPr/>
          <p:nvPr/>
        </p:nvSpPr>
        <p:spPr>
          <a:xfrm>
            <a:off x="5410080" y="4343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38"/>
          <p:cNvSpPr/>
          <p:nvPr/>
        </p:nvSpPr>
        <p:spPr>
          <a:xfrm>
            <a:off x="609588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39"/>
          <p:cNvSpPr/>
          <p:nvPr/>
        </p:nvSpPr>
        <p:spPr>
          <a:xfrm>
            <a:off x="4952880" y="4343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6095880" y="51814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41"/>
          <p:cNvSpPr/>
          <p:nvPr/>
        </p:nvSpPr>
        <p:spPr>
          <a:xfrm>
            <a:off x="4495680" y="43434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42"/>
          <p:cNvSpPr/>
          <p:nvPr/>
        </p:nvSpPr>
        <p:spPr>
          <a:xfrm>
            <a:off x="6172200" y="55627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43"/>
          <p:cNvSpPr/>
          <p:nvPr/>
        </p:nvSpPr>
        <p:spPr>
          <a:xfrm>
            <a:off x="4038480" y="4343400"/>
            <a:ext cx="213372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44"/>
          <p:cNvSpPr/>
          <p:nvPr/>
        </p:nvSpPr>
        <p:spPr>
          <a:xfrm>
            <a:off x="6172200" y="5867280"/>
            <a:ext cx="228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45"/>
          <p:cNvSpPr/>
          <p:nvPr/>
        </p:nvSpPr>
        <p:spPr>
          <a:xfrm>
            <a:off x="3657600" y="4343400"/>
            <a:ext cx="2514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46"/>
          <p:cNvSpPr/>
          <p:nvPr/>
        </p:nvSpPr>
        <p:spPr>
          <a:xfrm>
            <a:off x="6172200" y="62485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Group 47"/>
          <p:cNvGrpSpPr/>
          <p:nvPr/>
        </p:nvGrpSpPr>
        <p:grpSpPr>
          <a:xfrm>
            <a:off x="6474960" y="2438280"/>
            <a:ext cx="1955160" cy="1009080"/>
            <a:chOff x="6474960" y="2438280"/>
            <a:chExt cx="1955160" cy="1009080"/>
          </a:xfrm>
        </p:grpSpPr>
        <p:sp>
          <p:nvSpPr>
            <p:cNvPr id="280" name="AutoShape 48"/>
            <p:cNvSpPr/>
            <p:nvPr/>
          </p:nvSpPr>
          <p:spPr>
            <a:xfrm>
              <a:off x="6477120" y="2438280"/>
              <a:ext cx="194472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1" name="Group 49"/>
            <p:cNvGrpSpPr/>
            <p:nvPr/>
          </p:nvGrpSpPr>
          <p:grpSpPr>
            <a:xfrm>
              <a:off x="6474960" y="2438280"/>
              <a:ext cx="1955160" cy="1009080"/>
              <a:chOff x="6474960" y="2438280"/>
              <a:chExt cx="1955160" cy="1009080"/>
            </a:xfrm>
          </p:grpSpPr>
          <p:sp>
            <p:nvSpPr>
              <p:cNvPr id="282" name="AutoShape 50"/>
              <p:cNvSpPr/>
              <p:nvPr/>
            </p:nvSpPr>
            <p:spPr>
              <a:xfrm>
                <a:off x="6477120" y="2438280"/>
                <a:ext cx="194472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51"/>
              <p:cNvSpPr/>
              <p:nvPr/>
            </p:nvSpPr>
            <p:spPr>
              <a:xfrm>
                <a:off x="6474960" y="2438280"/>
                <a:ext cx="195516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dd up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lumn fo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decimal numbe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Group 52"/>
          <p:cNvGrpSpPr/>
          <p:nvPr/>
        </p:nvGrpSpPr>
        <p:grpSpPr>
          <a:xfrm>
            <a:off x="5421600" y="4041720"/>
            <a:ext cx="1077480" cy="1074600"/>
            <a:chOff x="5421600" y="4041720"/>
            <a:chExt cx="1077480" cy="1074600"/>
          </a:xfrm>
        </p:grpSpPr>
        <p:sp>
          <p:nvSpPr>
            <p:cNvPr id="285" name="AutoShape 53"/>
            <p:cNvSpPr/>
            <p:nvPr/>
          </p:nvSpPr>
          <p:spPr>
            <a:xfrm rot="1980000">
              <a:off x="5722920" y="4413240"/>
              <a:ext cx="484200" cy="3333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Group 54"/>
            <p:cNvGrpSpPr/>
            <p:nvPr/>
          </p:nvGrpSpPr>
          <p:grpSpPr>
            <a:xfrm>
              <a:off x="5421600" y="4041720"/>
              <a:ext cx="1077480" cy="1074600"/>
              <a:chOff x="5421600" y="4041720"/>
              <a:chExt cx="1077480" cy="1074600"/>
            </a:xfrm>
          </p:grpSpPr>
          <p:sp>
            <p:nvSpPr>
              <p:cNvPr id="287" name="AutoShape 55"/>
              <p:cNvSpPr/>
              <p:nvPr/>
            </p:nvSpPr>
            <p:spPr>
              <a:xfrm rot="1980000">
                <a:off x="5568480" y="4192560"/>
                <a:ext cx="783000" cy="772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AutoShape 56"/>
              <p:cNvSpPr/>
              <p:nvPr/>
            </p:nvSpPr>
            <p:spPr>
              <a:xfrm rot="1980000">
                <a:off x="5826960" y="42364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Group 57"/>
          <p:cNvGrpSpPr/>
          <p:nvPr/>
        </p:nvGrpSpPr>
        <p:grpSpPr>
          <a:xfrm>
            <a:off x="4926600" y="4031280"/>
            <a:ext cx="1110240" cy="1114560"/>
            <a:chOff x="4926600" y="4031280"/>
            <a:chExt cx="1110240" cy="1114560"/>
          </a:xfrm>
        </p:grpSpPr>
        <p:sp>
          <p:nvSpPr>
            <p:cNvPr id="290" name="AutoShape 58"/>
            <p:cNvSpPr/>
            <p:nvPr/>
          </p:nvSpPr>
          <p:spPr>
            <a:xfrm rot="2400000">
              <a:off x="5260680" y="4417920"/>
              <a:ext cx="48564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" name="Group 59"/>
            <p:cNvGrpSpPr/>
            <p:nvPr/>
          </p:nvGrpSpPr>
          <p:grpSpPr>
            <a:xfrm>
              <a:off x="4926600" y="4031280"/>
              <a:ext cx="1110240" cy="1114560"/>
              <a:chOff x="4926600" y="4031280"/>
              <a:chExt cx="1110240" cy="1114560"/>
            </a:xfrm>
          </p:grpSpPr>
          <p:sp>
            <p:nvSpPr>
              <p:cNvPr id="292" name="AutoShape 60"/>
              <p:cNvSpPr/>
              <p:nvPr/>
            </p:nvSpPr>
            <p:spPr>
              <a:xfrm rot="2400000">
                <a:off x="5095800" y="4184640"/>
                <a:ext cx="771480" cy="807840"/>
              </a:xfrm>
              <a:custGeom>
                <a:avLst/>
                <a:gdLst>
                  <a:gd name="textAreaLeft" fmla="*/ 720 w 771480"/>
                  <a:gd name="textAreaRight" fmla="*/ 770760 w 771480"/>
                  <a:gd name="textAreaTop" fmla="*/ 720 h 807840"/>
                  <a:gd name="textAreaBottom" fmla="*/ 807120 h 807840"/>
                </a:gdLst>
                <a:ahLst/>
                <a:rect l="textAreaLeft" t="textAreaTop" r="textAreaRight" b="textAreaBottom"/>
                <a:pathLst>
                  <a:path w="21600" h="22618">
                    <a:moveTo>
                      <a:pt x="101" y="0"/>
                    </a:moveTo>
                    <a:arcTo wR="101" hR="101" stAng="16200000" swAng="-5400000"/>
                    <a:lnTo>
                      <a:pt x="0" y="22517"/>
                    </a:lnTo>
                    <a:arcTo wR="101" hR="101" stAng="10800000" swAng="-5400000"/>
                    <a:lnTo>
                      <a:pt x="21499" y="22618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61"/>
              <p:cNvSpPr/>
              <p:nvPr/>
            </p:nvSpPr>
            <p:spPr>
              <a:xfrm rot="2400000">
                <a:off x="5390280" y="422640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Group 62"/>
          <p:cNvGrpSpPr/>
          <p:nvPr/>
        </p:nvGrpSpPr>
        <p:grpSpPr>
          <a:xfrm>
            <a:off x="4478760" y="4021920"/>
            <a:ext cx="1112760" cy="1116000"/>
            <a:chOff x="4478760" y="4021920"/>
            <a:chExt cx="1112760" cy="1116000"/>
          </a:xfrm>
        </p:grpSpPr>
        <p:sp>
          <p:nvSpPr>
            <p:cNvPr id="295" name="AutoShape 63"/>
            <p:cNvSpPr/>
            <p:nvPr/>
          </p:nvSpPr>
          <p:spPr>
            <a:xfrm rot="2280000">
              <a:off x="480708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Group 64"/>
            <p:cNvGrpSpPr/>
            <p:nvPr/>
          </p:nvGrpSpPr>
          <p:grpSpPr>
            <a:xfrm>
              <a:off x="4478760" y="4021920"/>
              <a:ext cx="1112760" cy="1116000"/>
              <a:chOff x="4478760" y="4021920"/>
              <a:chExt cx="1112760" cy="1116000"/>
            </a:xfrm>
          </p:grpSpPr>
          <p:sp>
            <p:nvSpPr>
              <p:cNvPr id="297" name="AutoShape 65"/>
              <p:cNvSpPr/>
              <p:nvPr/>
            </p:nvSpPr>
            <p:spPr>
              <a:xfrm rot="2280000">
                <a:off x="4642920" y="4178160"/>
                <a:ext cx="784440" cy="803160"/>
              </a:xfrm>
              <a:custGeom>
                <a:avLst/>
                <a:gdLst>
                  <a:gd name="textAreaLeft" fmla="*/ 720 w 784440"/>
                  <a:gd name="textAreaRight" fmla="*/ 783720 w 784440"/>
                  <a:gd name="textAreaTop" fmla="*/ 720 h 803160"/>
                  <a:gd name="textAreaBottom" fmla="*/ 802440 h 803160"/>
                </a:gdLst>
                <a:ahLst/>
                <a:rect l="textAreaLeft" t="textAreaTop" r="textAreaRight" b="textAreaBottom"/>
                <a:pathLst>
                  <a:path w="21600" h="22115">
                    <a:moveTo>
                      <a:pt x="101" y="0"/>
                    </a:moveTo>
                    <a:arcTo wR="101" hR="101" stAng="16200000" swAng="-5400000"/>
                    <a:lnTo>
                      <a:pt x="0" y="22014"/>
                    </a:lnTo>
                    <a:arcTo wR="101" hR="101" stAng="10800000" swAng="-5400000"/>
                    <a:lnTo>
                      <a:pt x="21499" y="22115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66"/>
              <p:cNvSpPr/>
              <p:nvPr/>
            </p:nvSpPr>
            <p:spPr>
              <a:xfrm rot="2280000">
                <a:off x="492804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Group 67"/>
          <p:cNvGrpSpPr/>
          <p:nvPr/>
        </p:nvGrpSpPr>
        <p:grpSpPr>
          <a:xfrm>
            <a:off x="4107960" y="4033080"/>
            <a:ext cx="1089720" cy="1092240"/>
            <a:chOff x="4107960" y="4033080"/>
            <a:chExt cx="1089720" cy="1092240"/>
          </a:xfrm>
        </p:grpSpPr>
        <p:sp>
          <p:nvSpPr>
            <p:cNvPr id="300" name="AutoShape 68"/>
            <p:cNvSpPr/>
            <p:nvPr/>
          </p:nvSpPr>
          <p:spPr>
            <a:xfrm rot="2100000">
              <a:off x="442224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69"/>
            <p:cNvGrpSpPr/>
            <p:nvPr/>
          </p:nvGrpSpPr>
          <p:grpSpPr>
            <a:xfrm>
              <a:off x="4107960" y="4033080"/>
              <a:ext cx="1089720" cy="1092240"/>
              <a:chOff x="4107960" y="4033080"/>
              <a:chExt cx="1089720" cy="1092240"/>
            </a:xfrm>
          </p:grpSpPr>
          <p:sp>
            <p:nvSpPr>
              <p:cNvPr id="302" name="AutoShape 70"/>
              <p:cNvSpPr/>
              <p:nvPr/>
            </p:nvSpPr>
            <p:spPr>
              <a:xfrm rot="2100000">
                <a:off x="4263840" y="4184640"/>
                <a:ext cx="777960" cy="788760"/>
              </a:xfrm>
              <a:custGeom>
                <a:avLst/>
                <a:gdLst>
                  <a:gd name="textAreaLeft" fmla="*/ 720 w 777960"/>
                  <a:gd name="textAreaRight" fmla="*/ 777240 w 777960"/>
                  <a:gd name="textAreaTop" fmla="*/ 720 h 788760"/>
                  <a:gd name="textAreaBottom" fmla="*/ 788040 h 788760"/>
                </a:gdLst>
                <a:ahLst/>
                <a:rect l="textAreaLeft" t="textAreaTop" r="textAreaRight" b="textAreaBottom"/>
                <a:pathLst>
                  <a:path w="21600" h="21900">
                    <a:moveTo>
                      <a:pt x="101" y="0"/>
                    </a:moveTo>
                    <a:arcTo wR="101" hR="101" stAng="16200000" swAng="-5400000"/>
                    <a:lnTo>
                      <a:pt x="0" y="21799"/>
                    </a:lnTo>
                    <a:arcTo wR="101" hR="101" stAng="10800000" swAng="-5400000"/>
                    <a:lnTo>
                      <a:pt x="21499" y="21900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71"/>
              <p:cNvSpPr/>
              <p:nvPr/>
            </p:nvSpPr>
            <p:spPr>
              <a:xfrm rot="2100000">
                <a:off x="453636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72"/>
          <p:cNvGrpSpPr/>
          <p:nvPr/>
        </p:nvGrpSpPr>
        <p:grpSpPr>
          <a:xfrm>
            <a:off x="3533400" y="3966480"/>
            <a:ext cx="1229400" cy="1237680"/>
            <a:chOff x="3533400" y="3966480"/>
            <a:chExt cx="1229400" cy="1237680"/>
          </a:xfrm>
        </p:grpSpPr>
        <p:sp>
          <p:nvSpPr>
            <p:cNvPr id="305" name="AutoShape 73"/>
            <p:cNvSpPr/>
            <p:nvPr/>
          </p:nvSpPr>
          <p:spPr>
            <a:xfrm rot="2400000">
              <a:off x="3895200" y="4419360"/>
              <a:ext cx="586080" cy="3315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Group 74"/>
            <p:cNvGrpSpPr/>
            <p:nvPr/>
          </p:nvGrpSpPr>
          <p:grpSpPr>
            <a:xfrm>
              <a:off x="3533400" y="3966480"/>
              <a:ext cx="1229400" cy="1237680"/>
              <a:chOff x="3533400" y="3966480"/>
              <a:chExt cx="1229400" cy="1237680"/>
            </a:xfrm>
          </p:grpSpPr>
          <p:sp>
            <p:nvSpPr>
              <p:cNvPr id="307" name="AutoShape 75"/>
              <p:cNvSpPr/>
              <p:nvPr/>
            </p:nvSpPr>
            <p:spPr>
              <a:xfrm rot="2400000">
                <a:off x="3727080" y="4130280"/>
                <a:ext cx="841680" cy="909360"/>
              </a:xfrm>
              <a:custGeom>
                <a:avLst/>
                <a:gdLst>
                  <a:gd name="textAreaLeft" fmla="*/ 1080 w 841680"/>
                  <a:gd name="textAreaRight" fmla="*/ 840600 w 841680"/>
                  <a:gd name="textAreaTop" fmla="*/ 1080 h 909360"/>
                  <a:gd name="textAreaBottom" fmla="*/ 908280 h 909360"/>
                </a:gdLst>
                <a:ahLst/>
                <a:rect l="textAreaLeft" t="textAreaTop" r="textAreaRight" b="textAreaBottom"/>
                <a:pathLst>
                  <a:path w="21600" h="23336">
                    <a:moveTo>
                      <a:pt x="102" y="0"/>
                    </a:moveTo>
                    <a:arcTo wR="102" hR="102" stAng="16200000" swAng="-5400000"/>
                    <a:lnTo>
                      <a:pt x="0" y="23234"/>
                    </a:lnTo>
                    <a:arcTo wR="102" hR="102" stAng="10800000" swAng="-5400000"/>
                    <a:lnTo>
                      <a:pt x="21498" y="23336"/>
                    </a:lnTo>
                    <a:arcTo wR="102" hR="102" stAng="5400000" swAng="-5400000"/>
                    <a:lnTo>
                      <a:pt x="21600" y="102"/>
                    </a:lnTo>
                    <a:arcTo wR="102" hR="10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76"/>
              <p:cNvSpPr/>
              <p:nvPr/>
            </p:nvSpPr>
            <p:spPr>
              <a:xfrm rot="2400000">
                <a:off x="4021200" y="4198320"/>
                <a:ext cx="590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Group 77"/>
          <p:cNvGrpSpPr/>
          <p:nvPr/>
        </p:nvGrpSpPr>
        <p:grpSpPr>
          <a:xfrm>
            <a:off x="6626880" y="4724280"/>
            <a:ext cx="410400" cy="1740600"/>
            <a:chOff x="6626880" y="4724280"/>
            <a:chExt cx="410400" cy="1740600"/>
          </a:xfrm>
        </p:grpSpPr>
        <p:sp>
          <p:nvSpPr>
            <p:cNvPr id="310" name="AutoShape 78"/>
            <p:cNvSpPr/>
            <p:nvPr/>
          </p:nvSpPr>
          <p:spPr>
            <a:xfrm>
              <a:off x="6629400" y="4724280"/>
              <a:ext cx="407880" cy="1735200"/>
            </a:xfrm>
            <a:custGeom>
              <a:avLst/>
              <a:gdLst>
                <a:gd name="textAreaLeft" fmla="*/ 360 w 407880"/>
                <a:gd name="textAreaRight" fmla="*/ 407520 w 407880"/>
                <a:gd name="textAreaTop" fmla="*/ 360 h 1735200"/>
                <a:gd name="textAreaBottom" fmla="*/ 1734840 h 1735200"/>
              </a:gdLst>
              <a:ahLst/>
              <a:rect l="textAreaLeft" t="textAreaTop" r="textAreaRight" b="textAreaBottom"/>
              <a:pathLst>
                <a:path w="21600" h="91829">
                  <a:moveTo>
                    <a:pt x="83" y="0"/>
                  </a:moveTo>
                  <a:arcTo wR="83" hR="83" stAng="16200000" swAng="-5400000"/>
                  <a:lnTo>
                    <a:pt x="0" y="91746"/>
                  </a:lnTo>
                  <a:arcTo wR="83" hR="83" stAng="10800000" swAng="-5400000"/>
                  <a:lnTo>
                    <a:pt x="21517" y="91829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1" name="Group 79"/>
            <p:cNvGrpSpPr/>
            <p:nvPr/>
          </p:nvGrpSpPr>
          <p:grpSpPr>
            <a:xfrm>
              <a:off x="6626880" y="4724280"/>
              <a:ext cx="410400" cy="1740600"/>
              <a:chOff x="6626880" y="4724280"/>
              <a:chExt cx="410400" cy="1740600"/>
            </a:xfrm>
          </p:grpSpPr>
          <p:sp>
            <p:nvSpPr>
              <p:cNvPr id="312" name="AutoShape 80"/>
              <p:cNvSpPr/>
              <p:nvPr/>
            </p:nvSpPr>
            <p:spPr>
              <a:xfrm>
                <a:off x="6629400" y="4724280"/>
                <a:ext cx="407880" cy="1735200"/>
              </a:xfrm>
              <a:custGeom>
                <a:avLst/>
                <a:gdLst>
                  <a:gd name="textAreaLeft" fmla="*/ 360 w 407880"/>
                  <a:gd name="textAreaRight" fmla="*/ 407520 w 407880"/>
                  <a:gd name="textAreaTop" fmla="*/ 360 h 1735200"/>
                  <a:gd name="textAreaBottom" fmla="*/ 1734840 h 1735200"/>
                </a:gdLst>
                <a:ahLst/>
                <a:rect l="textAreaLeft" t="textAreaTop" r="textAreaRight" b="textAreaBottom"/>
                <a:pathLst>
                  <a:path w="21600" h="91829">
                    <a:moveTo>
                      <a:pt x="83" y="0"/>
                    </a:moveTo>
                    <a:arcTo wR="83" hR="83" stAng="16200000" swAng="-5400000"/>
                    <a:lnTo>
                      <a:pt x="0" y="91746"/>
                    </a:lnTo>
                    <a:arcTo wR="83" hR="83" stAng="10800000" swAng="-5400000"/>
                    <a:lnTo>
                      <a:pt x="21517" y="918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AutoShape 81"/>
              <p:cNvSpPr/>
              <p:nvPr/>
            </p:nvSpPr>
            <p:spPr>
              <a:xfrm>
                <a:off x="6626880" y="4724280"/>
                <a:ext cx="410040" cy="1740600"/>
              </a:xfrm>
              <a:custGeom>
                <a:avLst/>
                <a:gdLst>
                  <a:gd name="textAreaLeft" fmla="*/ 360 w 410040"/>
                  <a:gd name="textAreaRight" fmla="*/ 409680 w 410040"/>
                  <a:gd name="textAreaTop" fmla="*/ 360 h 1740600"/>
                  <a:gd name="textAreaBottom" fmla="*/ 1740240 h 1740600"/>
                </a:gdLst>
                <a:ahLst/>
                <a:rect l="textAreaLeft" t="textAreaTop" r="textAreaRight" b="textAreaBottom"/>
                <a:pathLst>
                  <a:path w="21600" h="91629">
                    <a:moveTo>
                      <a:pt x="83" y="0"/>
                    </a:moveTo>
                    <a:arcTo wR="83" hR="83" stAng="16200000" swAng="-5400000"/>
                    <a:lnTo>
                      <a:pt x="0" y="91546"/>
                    </a:lnTo>
                    <a:arcTo wR="83" hR="83" stAng="10800000" swAng="-5400000"/>
                    <a:lnTo>
                      <a:pt x="21517" y="916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	</a:t>
                </a: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" name="Freeform 82"/>
          <p:cNvSpPr/>
          <p:nvPr/>
        </p:nvSpPr>
        <p:spPr>
          <a:xfrm>
            <a:off x="6934320" y="4724280"/>
            <a:ext cx="457200" cy="1676520"/>
          </a:xfrm>
          <a:custGeom>
            <a:avLst/>
            <a:gdLst/>
            <a:ahLst/>
            <a:rect l="l" t="t" r="r" b="b"/>
            <a:pathLst>
              <a:path w="1271" h="4658">
                <a:moveTo>
                  <a:pt x="0" y="0"/>
                </a:moveTo>
                <a:cubicBezTo>
                  <a:pt x="317" y="0"/>
                  <a:pt x="635" y="194"/>
                  <a:pt x="635" y="388"/>
                </a:cubicBezTo>
                <a:lnTo>
                  <a:pt x="635" y="1940"/>
                </a:lnTo>
                <a:cubicBezTo>
                  <a:pt x="635" y="2134"/>
                  <a:pt x="953" y="2328"/>
                  <a:pt x="1270" y="2328"/>
                </a:cubicBezTo>
                <a:cubicBezTo>
                  <a:pt x="953" y="2328"/>
                  <a:pt x="635" y="2523"/>
                  <a:pt x="635" y="2717"/>
                </a:cubicBezTo>
                <a:lnTo>
                  <a:pt x="635" y="4269"/>
                </a:lnTo>
                <a:cubicBezTo>
                  <a:pt x="635" y="4463"/>
                  <a:pt x="317" y="4657"/>
                  <a:pt x="0" y="4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83"/>
          <p:cNvSpPr/>
          <p:nvPr/>
        </p:nvSpPr>
        <p:spPr>
          <a:xfrm flipH="1">
            <a:off x="7455960" y="5562720"/>
            <a:ext cx="327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84"/>
          <p:cNvSpPr/>
          <p:nvPr/>
        </p:nvSpPr>
        <p:spPr>
          <a:xfrm flipV="1">
            <a:off x="7772400" y="3417480"/>
            <a:ext cx="1440" cy="215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Group 85"/>
          <p:cNvGrpSpPr/>
          <p:nvPr/>
        </p:nvGrpSpPr>
        <p:grpSpPr>
          <a:xfrm>
            <a:off x="990720" y="5531400"/>
            <a:ext cx="3498840" cy="510120"/>
            <a:chOff x="990720" y="5531400"/>
            <a:chExt cx="3498840" cy="510120"/>
          </a:xfrm>
        </p:grpSpPr>
        <p:sp>
          <p:nvSpPr>
            <p:cNvPr id="318" name="AutoShape 86"/>
            <p:cNvSpPr/>
            <p:nvPr/>
          </p:nvSpPr>
          <p:spPr>
            <a:xfrm>
              <a:off x="990720" y="5611680"/>
              <a:ext cx="3498840" cy="354240"/>
            </a:xfrm>
            <a:prstGeom prst="roundRect">
              <a:avLst>
                <a:gd name="adj" fmla="val 444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" name="Group 87"/>
            <p:cNvGrpSpPr/>
            <p:nvPr/>
          </p:nvGrpSpPr>
          <p:grpSpPr>
            <a:xfrm>
              <a:off x="990720" y="5531400"/>
              <a:ext cx="3497040" cy="510120"/>
              <a:chOff x="990720" y="5531400"/>
              <a:chExt cx="3497040" cy="510120"/>
            </a:xfrm>
          </p:grpSpPr>
          <p:sp>
            <p:nvSpPr>
              <p:cNvPr id="320" name="AutoShape 88"/>
              <p:cNvSpPr/>
              <p:nvPr/>
            </p:nvSpPr>
            <p:spPr>
              <a:xfrm>
                <a:off x="990720" y="5610240"/>
                <a:ext cx="3497040" cy="353880"/>
              </a:xfrm>
              <a:prstGeom prst="roundRect">
                <a:avLst>
                  <a:gd name="adj" fmla="val 4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Text Box 89"/>
              <p:cNvSpPr/>
              <p:nvPr/>
            </p:nvSpPr>
            <p:spPr>
              <a:xfrm>
                <a:off x="990720" y="5531400"/>
                <a:ext cx="349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1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19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90960" cy="3933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Symbols and Tex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letter and symbol in a text document must be translated into a binary number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ndardized means of storing these cod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SCI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American Standard Code for Information Interchang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BCDIC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Extended Binary Coded Decimal Interchange Cod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ICODE (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tended ASCII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kursus anna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aldab esimese semestri jooksul enamvähem aru saad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infotehnoloogia, mis on meie erial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st edaspidistes IT kursustes juttu tule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erinevad IT teemad omavahel seotud 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teema on milleks oluline: praktikas ja teooria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IT on arenenud ja mida võiks lähiaastatel ood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ctures must be translated into a binary format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picture is broken down into small element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elements are called Pixels (Picture Elements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iz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device that converts a picture into a binary format for storage in the computer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amples of digitizers: scanner, digital camer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ized picture of a tig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943600" cy="39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lack and whit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xel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either 0 or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733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4"/>
          <p:cNvGrpSpPr/>
          <p:nvPr/>
        </p:nvGrpSpPr>
        <p:grpSpPr>
          <a:xfrm>
            <a:off x="5712480" y="2133720"/>
            <a:ext cx="2845440" cy="4209480"/>
            <a:chOff x="5712480" y="2133720"/>
            <a:chExt cx="2845440" cy="4209480"/>
          </a:xfrm>
        </p:grpSpPr>
        <p:sp>
          <p:nvSpPr>
            <p:cNvPr id="334" name="AutoShape 5"/>
            <p:cNvSpPr/>
            <p:nvPr/>
          </p:nvSpPr>
          <p:spPr>
            <a:xfrm>
              <a:off x="5715000" y="2133720"/>
              <a:ext cx="2808360" cy="4182840"/>
            </a:xfrm>
            <a:custGeom>
              <a:avLst/>
              <a:gdLst>
                <a:gd name="textAreaLeft" fmla="*/ 360 w 2808360"/>
                <a:gd name="textAreaRight" fmla="*/ 2808000 w 2808360"/>
                <a:gd name="textAreaTop" fmla="*/ 360 h 4182840"/>
                <a:gd name="textAreaBottom" fmla="*/ 4182480 h 4182840"/>
              </a:gdLst>
              <a:ahLst/>
              <a:rect l="textAreaLeft" t="textAreaTop" r="textAreaRight" b="textAreaBottom"/>
              <a:pathLst>
                <a:path w="21600" h="32170">
                  <a:moveTo>
                    <a:pt x="12" y="0"/>
                  </a:moveTo>
                  <a:arcTo wR="12" hR="12" stAng="16200000" swAng="-5400000"/>
                  <a:lnTo>
                    <a:pt x="0" y="32158"/>
                  </a:lnTo>
                  <a:arcTo wR="12" hR="12" stAng="10800000" swAng="-5400000"/>
                  <a:lnTo>
                    <a:pt x="21588" y="32170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5" name="Group 6"/>
            <p:cNvGrpSpPr/>
            <p:nvPr/>
          </p:nvGrpSpPr>
          <p:grpSpPr>
            <a:xfrm>
              <a:off x="5712480" y="2133720"/>
              <a:ext cx="2845440" cy="4209480"/>
              <a:chOff x="5712480" y="2133720"/>
              <a:chExt cx="2845440" cy="4209480"/>
            </a:xfrm>
          </p:grpSpPr>
          <p:sp>
            <p:nvSpPr>
              <p:cNvPr id="336" name="AutoShape 7"/>
              <p:cNvSpPr/>
              <p:nvPr/>
            </p:nvSpPr>
            <p:spPr>
              <a:xfrm>
                <a:off x="5715000" y="2133720"/>
                <a:ext cx="2808360" cy="4182840"/>
              </a:xfrm>
              <a:custGeom>
                <a:avLst/>
                <a:gdLst>
                  <a:gd name="textAreaLeft" fmla="*/ 360 w 2808360"/>
                  <a:gd name="textAreaRight" fmla="*/ 2808000 w 2808360"/>
                  <a:gd name="textAreaTop" fmla="*/ 360 h 4182840"/>
                  <a:gd name="textAreaBottom" fmla="*/ 4182480 h 4182840"/>
                </a:gdLst>
                <a:ahLst/>
                <a:rect l="textAreaLeft" t="textAreaTop" r="textAreaRight" b="textAreaBottom"/>
                <a:pathLst>
                  <a:path w="21600" h="32170">
                    <a:moveTo>
                      <a:pt x="12" y="0"/>
                    </a:moveTo>
                    <a:arcTo wR="12" hR="12" stAng="16200000" swAng="-5400000"/>
                    <a:lnTo>
                      <a:pt x="0" y="32158"/>
                    </a:lnTo>
                    <a:arcTo wR="12" hR="12" stAng="10800000" swAng="-5400000"/>
                    <a:lnTo>
                      <a:pt x="21588" y="32170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8"/>
              <p:cNvSpPr/>
              <p:nvPr/>
            </p:nvSpPr>
            <p:spPr>
              <a:xfrm>
                <a:off x="5712480" y="21337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ray-Sca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pixel contains a value representing some shade of gra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more shades of gray possible, the more memory will be need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4 shades of gray needs 2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, 01, 10, 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8 shades of gray needs 3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, 001, 010, 011, 100, 101, 110, 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64 shades of gray needs 6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000, 000001, … 111110, 111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238120" cy="48769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7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ssage transmission from the Arecibo radio telescope in Puerto Rico to other star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of Binary Inform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pa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960840" y="2362320"/>
            <a:ext cx="6996960" cy="3386160"/>
            <a:chOff x="960840" y="2362320"/>
            <a:chExt cx="6996960" cy="3386160"/>
          </a:xfrm>
        </p:grpSpPr>
        <p:sp>
          <p:nvSpPr>
            <p:cNvPr id="346" name="AutoShape 4"/>
            <p:cNvSpPr/>
            <p:nvPr/>
          </p:nvSpPr>
          <p:spPr>
            <a:xfrm>
              <a:off x="990720" y="2362320"/>
              <a:ext cx="6927840" cy="3375000"/>
            </a:xfrm>
            <a:prstGeom prst="roundRect">
              <a:avLst>
                <a:gd name="adj" fmla="val 4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Group 5"/>
            <p:cNvGrpSpPr/>
            <p:nvPr/>
          </p:nvGrpSpPr>
          <p:grpSpPr>
            <a:xfrm>
              <a:off x="960840" y="2362320"/>
              <a:ext cx="6996960" cy="3386160"/>
              <a:chOff x="960840" y="2362320"/>
              <a:chExt cx="6996960" cy="3386160"/>
            </a:xfrm>
          </p:grpSpPr>
          <p:sp>
            <p:nvSpPr>
              <p:cNvPr id="348" name="AutoShape 6"/>
              <p:cNvSpPr/>
              <p:nvPr/>
            </p:nvSpPr>
            <p:spPr>
              <a:xfrm>
                <a:off x="990720" y="2362320"/>
                <a:ext cx="6926040" cy="3373200"/>
              </a:xfrm>
              <a:prstGeom prst="roundRect">
                <a:avLst>
                  <a:gd name="adj" fmla="val 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9" name="Group 7"/>
              <p:cNvGrpSpPr/>
              <p:nvPr/>
            </p:nvGrpSpPr>
            <p:grpSpPr>
              <a:xfrm>
                <a:off x="960840" y="2362320"/>
                <a:ext cx="6996960" cy="3386160"/>
                <a:chOff x="960840" y="2362320"/>
                <a:chExt cx="6996960" cy="3386160"/>
              </a:xfrm>
            </p:grpSpPr>
            <p:sp>
              <p:nvSpPr>
                <p:cNvPr id="350" name="AutoShape 8"/>
                <p:cNvSpPr/>
                <p:nvPr/>
              </p:nvSpPr>
              <p:spPr>
                <a:xfrm>
                  <a:off x="990720" y="2362320"/>
                  <a:ext cx="6926040" cy="337320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AutoShape 9"/>
                <p:cNvSpPr/>
                <p:nvPr/>
              </p:nvSpPr>
              <p:spPr>
                <a:xfrm>
                  <a:off x="960840" y="2362320"/>
                  <a:ext cx="6996960" cy="338616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t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Approximate Siz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t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nary dig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nibbl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4 bit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8 bit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charact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kilo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/2 page, double space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e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48,576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,000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gi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73,741,8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m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er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rillion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b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ac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larative: statement of being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arts knowledg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erative: demands action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rols information or activity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within the computer before us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in binary for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set of binary instructions is called a progra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collection of instructions for the computer to perform one by o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chine Languag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language of the computing machi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instructions must be in the form of binary numbers (binary code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tored-program Comput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so known as the von Neumann-typ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s memory - a place to keep both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ie program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 the needed information (ie data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eded for computation by th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kku ca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30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iga nädal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reedeti kaks loengut järje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12:00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kavas olev sisu, eksamiks kriitiline, õppejõud T.Tamm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14:00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erinevad teemad / kursuste ülevaated / õppejõud,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osa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eksamil kajastatud,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osa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e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umid on iseõppelised: juhendamist neis ei toim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 nädal on vaja veebis teha mikro-kontroll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 lõpeb kirjaliku eksamig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ursuse hinne arvutatakse nii: eksamipunktid (0-100) - kontrolltööde summaarne tulemus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id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s kontrolltöös on kümme küsimust: kaks viga kontrolltöös on ük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,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eli kaks veapunkti jne, tegemata kontrolltöö on vii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i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dengi kõigi kontrolltööde miinuspunktide summast lahutataks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eskmine kontrolltööde miinuspunktide summa, vahe ongi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ummaarn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lem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naloog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vs diskree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devad ehk analoog-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aga arvud, murru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igonomeetr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line analüü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 füüs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õõtmised, tugevus jms klassikaline insenerivä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atkevad ehk diskreetsed 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ulkade struktuu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3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8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ga ja milleks tegeleda? Kaks keerukalt seotud poolu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rvutiteadus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ha võimalikult keerulisi asju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ommertsrakendused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iendile meelepäraseid asj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8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" name="Line 6"/>
          <p:cNvSpPr/>
          <p:nvPr/>
        </p:nvSpPr>
        <p:spPr>
          <a:xfrm>
            <a:off x="3048120" y="2682720"/>
            <a:ext cx="1440" cy="126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3200400" y="3086280"/>
            <a:ext cx="5024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Inseneriasja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: teha kõike lihtsamal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rvutitea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"/>
            <a:ext cx="7848720" cy="75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temaatiline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ebra erihar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atav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k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rifitseerimine, järelduste automatiseer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pp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ed ja kompilaato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rüp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eel 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baaside teooria ja tehnoloog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igraafika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7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kommertsrak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-720720"/>
            <a:ext cx="7848720" cy="85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aiatarbe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süsteemid, draiver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redaktorid, brauserid, epost jn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ised võrgurakendused: google, youtube, skype, .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äng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sugu utilii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vahen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o, raamatupidamissüsteemide jms toor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ri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rakendused, telekomirakendused jne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alsed lao- ja tellimissüstee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andmebaas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süsteemide sidu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0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sti ülikoolikoolkonnad IT valdkonnas: ajaloolised allik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jandusteaduskon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ktroon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päri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tu ülikoo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ttevõtt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tu ülikoo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is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usmeetodite teoree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ud matemaa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llinna ülikoo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umanitaa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materjalid ja töö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l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i o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tegi konkreetset õpiku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õik kursuse materjalid ja informatsioon on sellel lehe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materjale on nii eesti- kui ingliskeels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aks otsestele loengumaterjalidele on võrgus antud ka muud loengu teema omandamiseks vajalikud materjalid, enamasti ingliskeels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tavaid detaile saab kuulda ainult loengus käies. Iseõppimine on teoreetiliselt võimalik, kuid on raske ja ajamahuka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praktiliste töödena (arvutil) kasutame erinevaid veebirakendus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muud kohustuslikud tööd on lihtsalt lugemisülesand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algu soovitav kirja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52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oovit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d igapäevaselt loetavad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saidid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ws.ycombinator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reddit.co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(vali sobivad alamredditid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Mõned soovitavad p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odcast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s://lexfridman.com/podcast/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A.I. Podca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s://www.preposterousuniverse.com/podcast/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Mindscap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Loomulikul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akka lugema kursuse lehel olevat kohustuslikku kirjand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loengukav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ata: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ermin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334040" cy="578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2-09-02T08:18:23Z</dcterms:modified>
  <cp:revision>40</cp:revision>
  <dc:subject/>
  <dc:title> </dc:title>
</cp:coreProperties>
</file>